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84A-A980-4C73-82FD-26CC25FC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5B7-A3B7-40F3-A1CD-D92F42CF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D1B-3226-4063-8DBB-F7A2C444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7FA-5696-4BCB-BC0F-8D12606E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C32-391E-4468-B9BC-9B82F5FE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E81-C2E7-4C0C-BB14-51D3C405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658-E6FD-44F8-A154-CC65445E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6DC-B88F-4C08-BF27-46713DD1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7D1-0938-422B-BAB6-FA7AA2CF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D34-12EF-48F8-BF03-C07543A8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BA5-61B9-4E17-83C1-11A08EEE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D5F-5B3B-41C9-8912-06B9DF5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8D3B-4F96-4D5D-9697-709F88932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" name="Content Placeholder 2"/>
          <p:cNvSpPr/>
          <p:nvPr/>
        </p:nvSpPr>
        <p:spPr>
          <a:xfrm>
            <a:off x="45720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Classroom Yearbook for Class 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TMed"/>
              </a:rPr>
              <a:t>Know Wonder Acade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TMed"/>
              </a:rPr>
              <a:t>Luzviminda Phil I. Pi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TMed"/>
              </a:rPr>
              <a:t>Grade 6, Room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TMed"/>
              </a:rPr>
              <a:t>S.Y.2010-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629400" y="4419720"/>
            <a:ext cx="221940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81" name="Content Placeholder 2"/>
          <p:cNvSpPr/>
          <p:nvPr/>
        </p:nvSpPr>
        <p:spPr>
          <a:xfrm>
            <a:off x="304920" y="525600"/>
            <a:ext cx="4572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won the first place in the Speech Choir category during the English Festiv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4359240" y="2994120"/>
            <a:ext cx="4800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qualify for the national level in Math-whiz competition to be held at Makati Ci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5638680" y="685800"/>
            <a:ext cx="2514600" cy="211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rcRect l="0" t="11417" r="0" b="0"/>
          <a:stretch/>
        </p:blipFill>
        <p:spPr>
          <a:xfrm>
            <a:off x="304920" y="3733920"/>
            <a:ext cx="2819160" cy="188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rcRect l="0" t="11417" r="0" b="0"/>
          <a:stretch/>
        </p:blipFill>
        <p:spPr>
          <a:xfrm>
            <a:off x="2133720" y="3749760"/>
            <a:ext cx="24382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87" name="Content Placeholder 2"/>
          <p:cNvSpPr/>
          <p:nvPr/>
        </p:nvSpPr>
        <p:spPr>
          <a:xfrm>
            <a:off x="533520" y="2286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class Science Investigatory project won as the most indigenous project during the Science Fair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4572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class win the first place in our Science exhibit with the theme  “Science kids, the eye of the future.”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2"/>
          <a:srcRect l="18927" t="34892" r="42292" b="26000"/>
          <a:stretch/>
        </p:blipFill>
        <p:spPr>
          <a:xfrm>
            <a:off x="1774800" y="2133720"/>
            <a:ext cx="5594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room Perfor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14040" y="16002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askervilleTMed"/>
              </a:rPr>
              <a:t>Class Performanc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94" name="Content Placeholder 2"/>
          <p:cNvSpPr/>
          <p:nvPr/>
        </p:nvSpPr>
        <p:spPr>
          <a:xfrm>
            <a:off x="473040" y="1522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witnessed the stage play performances presented by each group of the class and all of them participat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rcRect l="12502" t="27559" r="35250" b="16446"/>
          <a:stretch/>
        </p:blipFill>
        <p:spPr>
          <a:xfrm>
            <a:off x="1447920" y="2803680"/>
            <a:ext cx="6065640" cy="2514600"/>
          </a:xfrm>
          <a:prstGeom prst="rect">
            <a:avLst/>
          </a:prstGeom>
          <a:ln w="0">
            <a:noFill/>
          </a:ln>
        </p:spPr>
      </p:pic>
      <p:sp>
        <p:nvSpPr>
          <p:cNvPr id="96" name="Content Placeholder 2"/>
          <p:cNvSpPr/>
          <p:nvPr/>
        </p:nvSpPr>
        <p:spPr>
          <a:xfrm>
            <a:off x="487440" y="53341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class presented a variety show and it was a big accomplishm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368784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2"/>
          <p:cNvSpPr/>
          <p:nvPr/>
        </p:nvSpPr>
        <p:spPr>
          <a:xfrm>
            <a:off x="487440" y="3703680"/>
            <a:ext cx="84582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TMed"/>
              </a:rPr>
              <a:t>CLASS 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e you next school year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371600" y="380880"/>
            <a:ext cx="6553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rcRect l="629" t="65616" r="79845" b="2112"/>
          <a:stretch/>
        </p:blipFill>
        <p:spPr>
          <a:xfrm>
            <a:off x="5334120" y="-30240"/>
            <a:ext cx="3375000" cy="344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rcRect l="59627" t="2603" r="20188" b="66004"/>
          <a:stretch/>
        </p:blipFill>
        <p:spPr>
          <a:xfrm>
            <a:off x="5334120" y="3413160"/>
            <a:ext cx="3375000" cy="344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4"/>
          <a:srcRect l="60182" t="65829" r="20291" b="1899"/>
          <a:stretch/>
        </p:blipFill>
        <p:spPr>
          <a:xfrm>
            <a:off x="380880" y="-30240"/>
            <a:ext cx="3581640" cy="345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5"/>
          <a:srcRect l="79588" t="65512" r="505" b="1715"/>
          <a:stretch/>
        </p:blipFill>
        <p:spPr>
          <a:xfrm>
            <a:off x="380880" y="3413160"/>
            <a:ext cx="3581640" cy="3444840"/>
          </a:xfrm>
          <a:prstGeom prst="rect">
            <a:avLst/>
          </a:prstGeom>
          <a:ln w="0">
            <a:noFill/>
          </a:ln>
        </p:spPr>
      </p:pic>
      <p:sp>
        <p:nvSpPr>
          <p:cNvPr id="109" name="Rounded Rectangle 5"/>
          <p:cNvSpPr/>
          <p:nvPr/>
        </p:nvSpPr>
        <p:spPr>
          <a:xfrm>
            <a:off x="2438280" y="1692360"/>
            <a:ext cx="1336680" cy="81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"/>
              </a:rPr>
              <a:t>Dainal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"/>
              </a:rPr>
              <a:t>Diambr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11"/>
          <p:cNvSpPr/>
          <p:nvPr/>
        </p:nvSpPr>
        <p:spPr>
          <a:xfrm>
            <a:off x="2666880" y="4726080"/>
            <a:ext cx="1108080" cy="819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"/>
              </a:rPr>
              <a:t>Dai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"/>
              </a:rPr>
              <a:t>Pand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2"/>
          <p:cNvSpPr/>
          <p:nvPr/>
        </p:nvSpPr>
        <p:spPr>
          <a:xfrm>
            <a:off x="7620120" y="533520"/>
            <a:ext cx="9144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Bodoni MT"/>
              </a:rPr>
              <a:t>Els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Bodoni MT"/>
              </a:rPr>
              <a:t>C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Rounded Rectangle 13" descr=""/>
          <p:cNvPicPr/>
          <p:nvPr/>
        </p:nvPicPr>
        <p:blipFill>
          <a:blip r:embed="rId6"/>
          <a:stretch/>
        </p:blipFill>
        <p:spPr>
          <a:xfrm>
            <a:off x="5553000" y="4724280"/>
            <a:ext cx="1122480" cy="858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114800" y="0"/>
            <a:ext cx="1066680" cy="670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BOOK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93280" y="2286000"/>
            <a:ext cx="80168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Classroom Learn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Special Eve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Class Performanc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84480" y="609480"/>
            <a:ext cx="837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skervilleTMed"/>
              </a:rPr>
              <a:t>Yearbook C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2"/>
          <p:cNvSpPr/>
          <p:nvPr/>
        </p:nvSpPr>
        <p:spPr>
          <a:xfrm>
            <a:off x="1020600" y="1569960"/>
            <a:ext cx="7620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askervilleTMed"/>
              </a:rPr>
              <a:t>Classroom Learn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27432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ROOM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914040" y="14475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upils learn the different systems of the body and how they fun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602240" y="205740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82044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upils have learned all about whole and rational numbers, basic geometry, measurement, graphs and their applications to daily living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2076480" cy="3009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6035760" y="3581280"/>
            <a:ext cx="2786040" cy="3009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4"/>
          <a:stretch/>
        </p:blipFill>
        <p:spPr>
          <a:xfrm>
            <a:off x="2305080" y="4191120"/>
            <a:ext cx="38671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65040" y="533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upils have learned how to distinguish the meaning of the sentence cause by stresses, follow directions, locate the main idea in a selection, sequencing of events as well as cause and effect identification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rcRect l="14226" t="0" r="12220" b="6667"/>
          <a:stretch/>
        </p:blipFill>
        <p:spPr>
          <a:xfrm>
            <a:off x="228600" y="3657600"/>
            <a:ext cx="20574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rcRect l="5996" t="0" r="12673" b="7780"/>
          <a:stretch/>
        </p:blipFill>
        <p:spPr>
          <a:xfrm>
            <a:off x="7238880" y="3657600"/>
            <a:ext cx="1714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7" name="Content Placeholder 2"/>
          <p:cNvSpPr/>
          <p:nvPr/>
        </p:nvSpPr>
        <p:spPr>
          <a:xfrm>
            <a:off x="838080" y="2514600"/>
            <a:ext cx="762012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askervilleTMed"/>
              </a:rPr>
              <a:t>Special Event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a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579600" y="4343040"/>
            <a:ext cx="5935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won the regional sports competition in soccer football ev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4114800" y="1020600"/>
            <a:ext cx="4800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won as the best food display during the Nutrition Month culmin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3505320" cy="2468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rcRect l="9794" t="54550" r="10207" b="15156"/>
          <a:stretch/>
        </p:blipFill>
        <p:spPr>
          <a:xfrm>
            <a:off x="639720" y="3292560"/>
            <a:ext cx="3475080" cy="761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rcRect l="8003" t="0" r="8003" b="8003"/>
          <a:stretch/>
        </p:blipFill>
        <p:spPr>
          <a:xfrm>
            <a:off x="5943600" y="3505320"/>
            <a:ext cx="29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41360" y="3412800"/>
            <a:ext cx="4664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participated the National Leadership Training in Baguio Ci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3505320" y="533520"/>
            <a:ext cx="541008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joined the Provincial Girls Scout Camp at Pigcarangan, Tubod, Lanao del Nor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6672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rcRect l="9000" t="28226" r="32377" b="26892"/>
          <a:stretch/>
        </p:blipFill>
        <p:spPr>
          <a:xfrm>
            <a:off x="5105520" y="338292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2:25:26Z</dcterms:created>
  <dc:creator>Daylinda Pandan</dc:creator>
  <dc:description/>
  <dc:language>en-US</dc:language>
  <cp:lastModifiedBy>Daylinda Pandan</cp:lastModifiedBy>
  <dcterms:modified xsi:type="dcterms:W3CDTF">2011-10-05T05:10:33Z</dcterms:modified>
  <cp:revision>47</cp:revision>
  <dc:subject/>
  <dc:title>PowerPoint Presentation</dc:title>
</cp:coreProperties>
</file>